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550F-1A01-4AEC-9DDD-AE33EFED9FF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B514-2C27-456D-9C32-695EB5FF97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475-33EC-4189-8135-4F0E1978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0363-AF10-476A-BAD6-1FF02C71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864-08B3-4937-A1BC-AADED1DD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E9F-F976-4EEA-85AF-3D4C4050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40D-1AE5-4D78-8720-4E859FF5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D5C-D0FD-4A82-AC97-760977BB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EA4-E297-4B7B-B05C-9A6923E5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823-731D-4EFC-BE6C-7E253037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05D-623B-4925-A1DD-7CD660EB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CD6-CD71-4437-9A1B-AD78AD25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9ED-E034-4936-A5D9-2A20E7C0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934-0F8D-4BAD-BF53-79D713D0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B077-A468-4C99-99EF-BD2C91A02A6A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Fire in the Forest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Garcia de Senna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unster,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  <a:ea typeface="DejaVu Sans"/>
              </a:rPr>
              <a:t>Basic Cellular Automaton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113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Oval 3"/>
          <p:cNvSpPr/>
          <p:nvPr/>
        </p:nvSpPr>
        <p:spPr>
          <a:xfrm>
            <a:off x="53964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635280" y="3213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658800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6"/>
          <p:cNvCxnSpPr>
            <a:stCxn id="166" idx="7"/>
            <a:endCxn id="167" idx="2"/>
          </p:cNvCxnSpPr>
          <p:nvPr/>
        </p:nvCxnSpPr>
        <p:spPr>
          <a:xfrm flipV="1">
            <a:off x="2382480" y="3715920"/>
            <a:ext cx="125316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70" name="Straight Arrow Connector 8"/>
          <p:cNvCxnSpPr>
            <a:stCxn id="167" idx="6"/>
            <a:endCxn id="168" idx="1"/>
          </p:cNvCxnSpPr>
          <p:nvPr/>
        </p:nvCxnSpPr>
        <p:spPr>
          <a:xfrm>
            <a:off x="5796000" y="3716280"/>
            <a:ext cx="110880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120" y="1988640"/>
            <a:ext cx="853452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x 50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states: forest, burning, and bu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ly all cells are fo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n Neumann neighborhood (4 neighb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orest cell burns if a neighbor is bu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rning cell becomes burned after one time st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andom initial burning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 for 90 time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Oval 4"/>
          <p:cNvSpPr/>
          <p:nvPr/>
        </p:nvSpPr>
        <p:spPr>
          <a:xfrm>
            <a:off x="3635280" y="3213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658800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8"/>
          <p:cNvCxnSpPr>
            <a:stCxn id="175" idx="6"/>
            <a:endCxn id="176" idx="1"/>
          </p:cNvCxnSpPr>
          <p:nvPr/>
        </p:nvCxnSpPr>
        <p:spPr>
          <a:xfrm>
            <a:off x="5796000" y="3716280"/>
            <a:ext cx="110880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178" name="Oval 9"/>
          <p:cNvSpPr/>
          <p:nvPr/>
        </p:nvSpPr>
        <p:spPr>
          <a:xfrm>
            <a:off x="3059280" y="5661000"/>
            <a:ext cx="216036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Emp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53964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Straight Arrow Connector 11"/>
          <p:cNvCxnSpPr>
            <a:stCxn id="179" idx="7"/>
          </p:cNvCxnSpPr>
          <p:nvPr/>
        </p:nvCxnSpPr>
        <p:spPr>
          <a:xfrm flipV="1">
            <a:off x="2382480" y="3715920"/>
            <a:ext cx="125316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120" y="1988640"/>
            <a:ext cx="853452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x 50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s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mpty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est, burning, and bu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itial state: select randomly between empty/fo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n Neumann neighborhood (4 neighb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orest cell becomes burning if a neighbor is bu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rning cell becomes burned after one time st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andom initial burning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 for 90 time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tiago</cp:lastModifiedBy>
  <cp:lastPrinted>2012-10-26T17:22:49Z</cp:lastPrinted>
  <dcterms:modified xsi:type="dcterms:W3CDTF">2014-08-02T15:56:00Z</dcterms:modified>
  <cp:revision>383</cp:revision>
  <dc:subject/>
  <dc:title>Low-carbon growth in Brazil?</dc:title>
</cp:coreProperties>
</file>